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1.png" ContentType="image/png"/>
  <Override PartName="/ppt/media/image15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5.jpeg" ContentType="image/jpeg"/>
  <Override PartName="/ppt/media/image6.jpeg" ContentType="image/jpeg"/>
  <Override PartName="/ppt/media/image12.wmf" ContentType="image/x-wmf"/>
  <Override PartName="/ppt/media/image14.jpeg" ContentType="image/jpeg"/>
  <Override PartName="/ppt/media/image8.png" ContentType="image/png"/>
  <Override PartName="/ppt/media/image16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982-7263-4335-A16B-930DF5E7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AD1-9803-4F22-812C-701135E8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3CC-A9CE-45F4-864D-C23CC9C0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A98B-682B-4320-A76A-91F55A39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61A6-84CE-4060-A31F-54C52BA8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0AB3-C567-47DC-8708-BAEC94C4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604F-559B-4CB6-B0BF-C7D0AD5D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8CBD-190C-4507-B453-F48ECAB3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1372-B66A-452F-9595-D87DE371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B456-C26D-40A9-A5B1-6705C113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F924-6E2A-4667-A225-E90ED851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A9B-56C7-42EE-AA20-6EEFC7F7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1192-B10E-442A-96DA-B5B700E5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65AB-B2EE-4EFA-A612-2A51C478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AB65-64D2-423B-937C-7EFBBD1F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93C0-D711-4AAD-AECE-09008760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4A41-8C2C-4DD7-9AB3-6311CBDD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B810-8925-4C31-BECA-A854858E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A00-2F9F-4724-A8D3-5399EE76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535-B58A-46CE-8D78-E6E998DF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C10-82D4-4BF1-8DF8-DED225DA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A7F-75C7-407F-AA0F-B662DE2D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CB9B-66AA-407E-A9E0-71B5031D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DDF-078D-4A42-BC5F-4A1663A3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0096-66C6-4D7E-A1E0-0F7FA665D9D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FB50-4BAF-4792-B8E8-646C43BC88B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ortcuts and Hotke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828800" y="1066680"/>
          <a:ext cx="5257800" cy="4825800"/>
        </p:xfrm>
        <a:graphic>
          <a:graphicData uri="http://schemas.openxmlformats.org/drawingml/2006/table">
            <a:tbl>
              <a:tblPr/>
              <a:tblGrid>
                <a:gridCol w="2628720"/>
                <a:gridCol w="262908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F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X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V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Z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- 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U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W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 – Ta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T - Ta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ding the ALT key and pressing tab moves between windo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3152520" cy="196236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omatically saves what you are working 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3039840" cy="174780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s a specific 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2914560" cy="2914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V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stes text or a file to another lo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071800" cy="3436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3878280" cy="3311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s a word and allows you to replace it with ano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5105520" cy="3038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ies text or a file to the computer’s clipb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887920" cy="2712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ns a new file in the program you are u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809880" cy="3070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ld faces the text you ty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76720" y="2666880"/>
            <a:ext cx="2786040" cy="30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o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ns a file when in a pro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2668320" cy="346860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cts all text or fi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2890800" cy="29116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ts a file or text and places it on the computer’s clipb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438640" cy="237168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o – takes back the last action you typed (usuall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2737080" cy="388620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s your words in ital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790720" cy="281952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lines the text you ty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262400" cy="398304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o – if you hit undo by mistake, this will bring it ba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oses a wind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436840" cy="271008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23:07:53Z</dcterms:created>
  <dc:creator>OIT</dc:creator>
  <dc:description/>
  <dc:language>en-US</dc:language>
  <cp:lastModifiedBy>OIT</cp:lastModifiedBy>
  <dcterms:modified xsi:type="dcterms:W3CDTF">2007-01-25T03:25:17Z</dcterms:modified>
  <cp:revision>3</cp:revision>
  <dc:subject/>
  <dc:title>Shortcuts and Hotkeys</dc:title>
</cp:coreProperties>
</file>